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A27E-5B9C-4B88-9038-E8F3907F0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8ACC-DC6C-4486-8C66-D86344E3B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A722-B157-4EE8-B29E-DBD196683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D830-7986-4F4A-B8B1-E3C8D2EB2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7AE5-6EBD-4C1A-94C7-F4D11C328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D251-8361-448A-A823-6DF2FFE7D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A3FF-1115-49D0-BE9E-FDB03E9B8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D065-41C2-46AA-A371-87C11A2D4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03D3-1C4E-481C-BE39-E03568F39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3952-9118-4CE7-B9ED-9D5C92B25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863D-05F7-42B2-830D-D76147E85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B0D9-1812-452E-908D-5678F8C87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99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E49AF-ED98-48E7-8B69-7AEE95AD767A}" type="slidenum">
              <a:rPr b="0" lang="ru-RU" sz="1400" spc="-1" strike="noStrike">
                <a:solidFill>
                  <a:srgbClr val="0000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16000" y="1700280"/>
            <a:ext cx="66564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cc"/>
                </a:solidFill>
                <a:latin typeface="Arial"/>
              </a:rPr>
              <a:t>Экология</a:t>
            </a:r>
            <a:r>
              <a:rPr b="0" lang="ru-RU" sz="4800" spc="-1" strike="noStrike">
                <a:solidFill>
                  <a:srgbClr val="0000cc"/>
                </a:solidFill>
                <a:latin typeface="Arial"/>
              </a:rPr>
              <a:t> – наука о взаимоотношениях живой материи с окружающей средой .</a:t>
            </a:r>
            <a:endParaRPr b="0" lang="en-US" sz="48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5"/>
          <p:cNvSpPr/>
          <p:nvPr/>
        </p:nvSpPr>
        <p:spPr>
          <a:xfrm>
            <a:off x="4211640" y="2205000"/>
            <a:ext cx="4681440" cy="403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789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Окружающая сре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0920" y="1987560"/>
            <a:ext cx="273672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атмосфера, литосфера и биосфера.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Picture 4" descr="Биосфера Земли"/>
          <p:cNvPicPr/>
          <p:nvPr/>
        </p:nvPicPr>
        <p:blipFill>
          <a:blip r:embed="rId1"/>
          <a:stretch/>
        </p:blipFill>
        <p:spPr>
          <a:xfrm>
            <a:off x="3276720" y="2205000"/>
            <a:ext cx="5688000" cy="403236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6"/>
          <p:cNvSpPr/>
          <p:nvPr/>
        </p:nvSpPr>
        <p:spPr>
          <a:xfrm>
            <a:off x="250920" y="1052640"/>
            <a:ext cx="864216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80" indent="-4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Естественная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окружающая среда это геосферы планеты: гидросфера, 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9280" y="17892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Окружающая сре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68680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Искусственная 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среда, или  техносфера – это создание ума и рук человека: фабрики и заводы, города и сёла, наземный водный и воздушный транспорт, средства связи и прочее. 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9" name="Picture 4" descr="Железные дороги"/>
          <p:cNvPicPr/>
          <p:nvPr/>
        </p:nvPicPr>
        <p:blipFill>
          <a:blip r:embed="rId1"/>
          <a:stretch/>
        </p:blipFill>
        <p:spPr>
          <a:xfrm>
            <a:off x="4932360" y="3772080"/>
            <a:ext cx="3816360" cy="2862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0407"/>
          <p:cNvPicPr/>
          <p:nvPr/>
        </p:nvPicPr>
        <p:blipFill>
          <a:blip r:embed="rId2"/>
          <a:stretch/>
        </p:blipFill>
        <p:spPr>
          <a:xfrm>
            <a:off x="395280" y="4005360"/>
            <a:ext cx="2521080" cy="2592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0389"/>
          <p:cNvPicPr/>
          <p:nvPr/>
        </p:nvPicPr>
        <p:blipFill>
          <a:blip r:embed="rId3"/>
          <a:stretch/>
        </p:blipFill>
        <p:spPr>
          <a:xfrm>
            <a:off x="2411280" y="3716280"/>
            <a:ext cx="4608720" cy="29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7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6000"/>
                            </p:stCondLst>
                            <p:childTnLst>
                              <p:par>
                                <p:cTn id="1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6000"/>
                            </p:stCondLst>
                            <p:childTnLst>
                              <p:par>
                                <p:cTn id="2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9280" y="17892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Окружающая сре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7854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Преобразованная 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среда, или агросфера, сочетает в себе признаки естественной и видоизменённой хозяйственной деятельностью человека (пашни, луга, пастбища, пруды, водохранилище, сады и парки, искусственные лесопосадки  и другие).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54" name="Picture 4" descr="Untitled - 5"/>
          <p:cNvPicPr/>
          <p:nvPr/>
        </p:nvPicPr>
        <p:blipFill>
          <a:blip r:embed="rId1"/>
          <a:stretch/>
        </p:blipFill>
        <p:spPr>
          <a:xfrm>
            <a:off x="4427640" y="4168800"/>
            <a:ext cx="4406760" cy="25002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Untitled - 6"/>
          <p:cNvPicPr/>
          <p:nvPr/>
        </p:nvPicPr>
        <p:blipFill>
          <a:blip r:embed="rId2"/>
          <a:stretch/>
        </p:blipFill>
        <p:spPr>
          <a:xfrm>
            <a:off x="179280" y="4552920"/>
            <a:ext cx="4176720" cy="22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9280" y="178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Эколог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«</a:t>
            </a: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Природа не признаёт шуток, она всегда серьёзна, всегда строга, она всегда права, ошибки же и заблуждения исходят от людей».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4427640" y="4653000"/>
            <a:ext cx="409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cc"/>
                </a:solidFill>
                <a:latin typeface="Arial"/>
              </a:rPr>
              <a:t>Вольфганг Гёте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79280"/>
            <a:ext cx="896472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Некоторые из основных экологических проблем мир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5280" y="2060640"/>
            <a:ext cx="8229600" cy="402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Уничтожение лесов.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Токсичные отходы.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Деградация земель.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Водный кризис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Исчезновение видов.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Загрязнение атмосферы.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61" name="Picture 5" descr="Последствия глобального потепления, как указывается в докладе, будут непропорциональны и больнее всего отзовутся именно на самых бедных регионах мира. Экологические проблемы могут поставить под угрозу достижение цели сокращения бедности в мире вдвое к 201"/>
          <p:cNvPicPr/>
          <p:nvPr/>
        </p:nvPicPr>
        <p:blipFill>
          <a:blip r:embed="rId1"/>
          <a:stretch/>
        </p:blipFill>
        <p:spPr>
          <a:xfrm>
            <a:off x="5867280" y="162864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image_4088"/>
          <p:cNvPicPr/>
          <p:nvPr/>
        </p:nvPicPr>
        <p:blipFill>
          <a:blip r:embed="rId2"/>
          <a:stretch/>
        </p:blipFill>
        <p:spPr>
          <a:xfrm rot="19695600">
            <a:off x="6876720" y="4723920"/>
            <a:ext cx="1584360" cy="11318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9" descr="img_eco01"/>
          <p:cNvPicPr/>
          <p:nvPr/>
        </p:nvPicPr>
        <p:blipFill>
          <a:blip r:embed="rId3"/>
          <a:stretch/>
        </p:blipFill>
        <p:spPr>
          <a:xfrm>
            <a:off x="5796000" y="1628640"/>
            <a:ext cx="3103560" cy="21164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1" descr="pj040101"/>
          <p:cNvPicPr/>
          <p:nvPr/>
        </p:nvPicPr>
        <p:blipFill>
          <a:blip r:embed="rId4"/>
          <a:stretch/>
        </p:blipFill>
        <p:spPr>
          <a:xfrm>
            <a:off x="5796000" y="1628640"/>
            <a:ext cx="3114720" cy="23432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3" descr="pic"/>
          <p:cNvPicPr/>
          <p:nvPr/>
        </p:nvPicPr>
        <p:blipFill>
          <a:blip r:embed="rId5"/>
          <a:stretch/>
        </p:blipFill>
        <p:spPr>
          <a:xfrm>
            <a:off x="5796000" y="1628640"/>
            <a:ext cx="3097080" cy="21178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5" descr="expert-sibir_23_016"/>
          <p:cNvPicPr/>
          <p:nvPr/>
        </p:nvPicPr>
        <p:blipFill>
          <a:blip r:embed="rId6"/>
          <a:stretch/>
        </p:blipFill>
        <p:spPr>
          <a:xfrm>
            <a:off x="5651640" y="1557360"/>
            <a:ext cx="3217680" cy="23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7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8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9" dur="5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0"/>
                            </p:stCondLst>
                            <p:childTnLst>
                              <p:par>
                                <p:cTn id="51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2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8000"/>
                            </p:stCondLst>
                            <p:childTnLst>
                              <p:par>
                                <p:cTn id="58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6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4000"/>
                            </p:stCondLst>
                            <p:childTnLst>
                              <p:par>
                                <p:cTn id="72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3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7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8000" y="1789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Поиски возобновляемых источников энерги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920" y="1988640"/>
            <a:ext cx="3673440" cy="48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Солнечная энергия.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Энергия ветра.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Гидроэлектричество.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69" name="Picture 5" descr="7-3SunShot"/>
          <p:cNvPicPr/>
          <p:nvPr/>
        </p:nvPicPr>
        <p:blipFill>
          <a:blip r:embed="rId1"/>
          <a:stretch/>
        </p:blipFill>
        <p:spPr>
          <a:xfrm>
            <a:off x="6154560" y="1700280"/>
            <a:ext cx="2791080" cy="21794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14_sun_energ"/>
          <p:cNvPicPr/>
          <p:nvPr/>
        </p:nvPicPr>
        <p:blipFill>
          <a:blip r:embed="rId2"/>
          <a:stretch/>
        </p:blipFill>
        <p:spPr>
          <a:xfrm>
            <a:off x="6083280" y="1700280"/>
            <a:ext cx="2857680" cy="21524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9" descr="Солнце садится за ветровой электростанцией, расположенной недалеко от г. Монтесума, шт. Канзас"/>
          <p:cNvPicPr/>
          <p:nvPr/>
        </p:nvPicPr>
        <p:blipFill>
          <a:blip r:embed="rId3"/>
          <a:stretch/>
        </p:blipFill>
        <p:spPr>
          <a:xfrm>
            <a:off x="5435640" y="1700280"/>
            <a:ext cx="3492360" cy="27590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1" descr="040920offshore"/>
          <p:cNvPicPr/>
          <p:nvPr/>
        </p:nvPicPr>
        <p:blipFill>
          <a:blip r:embed="rId4"/>
          <a:stretch/>
        </p:blipFill>
        <p:spPr>
          <a:xfrm>
            <a:off x="5364000" y="1700280"/>
            <a:ext cx="3571920" cy="25527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3" descr="040723_einfuehrung_geothermie_bine_sb_bild"/>
          <p:cNvPicPr/>
          <p:nvPr/>
        </p:nvPicPr>
        <p:blipFill>
          <a:blip r:embed="rId5"/>
          <a:stretch/>
        </p:blipFill>
        <p:spPr>
          <a:xfrm>
            <a:off x="5364000" y="1700280"/>
            <a:ext cx="3530880" cy="25653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4" descr="Братская ГЭС"/>
          <p:cNvPicPr/>
          <p:nvPr/>
        </p:nvPicPr>
        <p:blipFill>
          <a:blip r:embed="rId6"/>
          <a:stretch/>
        </p:blipFill>
        <p:spPr>
          <a:xfrm>
            <a:off x="4643280" y="1700280"/>
            <a:ext cx="4211640" cy="3159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5" descr="Гейзер на о"/>
          <p:cNvPicPr/>
          <p:nvPr/>
        </p:nvPicPr>
        <p:blipFill>
          <a:blip r:embed="rId7"/>
          <a:stretch/>
        </p:blipFill>
        <p:spPr>
          <a:xfrm>
            <a:off x="3995640" y="1628640"/>
            <a:ext cx="4811760" cy="320688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16"/>
          <p:cNvSpPr/>
          <p:nvPr/>
        </p:nvSpPr>
        <p:spPr>
          <a:xfrm>
            <a:off x="216000" y="4824360"/>
            <a:ext cx="8820000" cy="22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Геотермальная энергия.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Энергия приливов и отливов.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12000"/>
                            </p:stCondLst>
                            <p:childTnLst>
                              <p:par>
                                <p:cTn id="8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2500"/>
                            </p:stCondLst>
                            <p:childTnLst>
                              <p:par>
                                <p:cTn id="86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7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4500"/>
                            </p:stCondLst>
                            <p:childTnLst>
                              <p:par>
                                <p:cTn id="9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4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6500"/>
                            </p:stCondLst>
                            <p:childTnLst>
                              <p:par>
                                <p:cTn id="100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1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500"/>
                            </p:stCondLst>
                            <p:childTnLst>
                              <p:par>
                                <p:cTn id="107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8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0500"/>
                            </p:stCondLst>
                            <p:childTnLst>
                              <p:par>
                                <p:cTn id="114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5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2500"/>
                            </p:stCondLst>
                            <p:childTnLst>
                              <p:par>
                                <p:cTn id="121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2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Вопросы для самопроверк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Почему нам необходимо знать экологию?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Отношение человека к окружающей среде?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Окружающая среда, какая она?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Экологическое исследование: «Моё отношение к окружающей среде».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0:31:51Z</dcterms:created>
  <dc:creator>Кирьянова</dc:creator>
  <dc:description/>
  <dc:language>en-US</dc:language>
  <cp:lastModifiedBy>Владелец</cp:lastModifiedBy>
  <dcterms:modified xsi:type="dcterms:W3CDTF">2009-02-02T08:37:57Z</dcterms:modified>
  <cp:revision>19</cp:revision>
  <dc:subject/>
  <dc:title>Экология</dc:title>
</cp:coreProperties>
</file>